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B28-38D7-481E-B82E-F3AD0B2D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C28-EF41-4AF6-8361-A2E1903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9B9-234C-4AF5-B3E6-428D5538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B37-55B3-4AFB-93AB-9F1CA67A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500-4A3A-4A1E-A9FC-C3325049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1B7-8D3C-45B1-BD5F-7020473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A0B-FECE-4B22-9929-34F7785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D17-8A91-4969-AA0A-3C94A3E7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9C1-5A32-4539-89B9-F3406BC2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09B-3FB8-4A33-A55B-4EF79E8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7CA-B933-4F22-9E66-ABDDC1E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B4D-58CD-4913-8AFF-BE447DC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A611-4122-4AA1-9BFB-241975C9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ame 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ame BF, âgée de 85 ans, vient à l’hôpital de jour, amenée par sa fille pour une évaluation cognitive suite à l’apparition de troubles mnés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ire de la maladi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ille de madame BF évoque l’apparition insidieuse il y a 1an ½ de troubles de la mémoire des faits ré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chute 4 mois auparavant alors qu’elle marchait dans la rue : sensation de dérobement des jambes avec impossibilité de marcher pendant quelques minu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é a avoir des difficultés dans la marche pendant environ 1 mois bien qu’elle a bénéficié d’une réédu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troubles de la mémoire se sont aggravés suite à cette chute lors d’un épisode de dépression: ne mangeait plus, anhéd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pparaît également un problème d’hygiène et d’ali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écéden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pisode de chute il y a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TA depuis environ 20 ans trai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ypercholestérolé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nie his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abète non insulino-dép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 de vi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it seule en pav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C= C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emme de ménage 2 fois /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as de problème d’amé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e gère plus son budget depuis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ait une partie des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en des fonctions supérie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MS= 14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temporelle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spatiale = 1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s 3 mot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pel des 3 mots = 0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nomination = 2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 la phras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res successif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 Fermez les yeux »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ritur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sin = 0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mots de Dubois = 3/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1 : 2 ; RI1 :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2 : 0 ; RI2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59:04Z</dcterms:created>
  <dc:creator>claire</dc:creator>
  <dc:description/>
  <dc:language>en-US</dc:language>
  <cp:lastModifiedBy>claire</cp:lastModifiedBy>
  <dcterms:modified xsi:type="dcterms:W3CDTF">2004-05-09T14:28:39Z</dcterms:modified>
  <cp:revision>12</cp:revision>
  <dc:subject/>
  <dc:title>Madame IS</dc:title>
</cp:coreProperties>
</file>